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61A-96D6-4512-89D2-83CEB022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456-F0E4-4829-AFF1-26DACE72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E25-F58D-4D64-962B-698F6634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EBC-1B31-4A54-AC5D-D914A6CD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9BE2-78BA-4D98-9FE3-F0A6F042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DA59-8DEB-453E-A523-2CB5913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3D3D-83BF-4C0D-97EF-18E770F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290A-1856-41CB-AF14-5EDEA71B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3BC4-FBCF-43A7-805A-11C1FC9B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6AE5-E0B6-4299-B2F4-218DDACF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E2F-092E-48B9-9E0C-D8D8AFC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715-96FD-40D3-972B-062D41BF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4394-5919-42EC-B122-5A2C3E2A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B1B3-3582-406C-A9CD-147DE81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2D8A-F3A0-466F-BC08-D439EC25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7A8C-7F64-426B-97D3-992F5116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AF5B-8DE7-4B6E-A502-B33CAF82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A52C-B4EF-45F7-AD32-D9F243AC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6AC2-9918-4FD1-8F74-1DD8C50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E811-FDD1-4FFC-9830-7E4C175A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BC5C-0FD3-4D28-A347-21225413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D334-0EFC-4ED8-AA86-3AF76EC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C3D-FA16-4B4A-A76E-D3510F1F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C6B1-058F-49D7-909E-9E84BA25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6344-8FB7-4054-ABC9-6247A106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831C5-9A51-4BB0-8F6E-CB11A5A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A9D0-1E80-461A-942B-04FD542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E3F5-05FE-4C78-AA56-496B6EB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1061-0706-4599-8A47-728CD7D8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8691-EAF9-4765-9D7B-103797D7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247A-BBE8-47EC-BBAB-6789328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3147-6A76-4B1E-AE85-A4C84584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EA32-1254-46DD-9882-129A873C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B09-3D0C-4CF4-878F-7BF371B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E938-1DD5-4F2F-884B-D82B223D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40E1-B0F9-499C-B851-1D181CB8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4C77-26AD-47DB-AA6C-310F1711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4282-56CB-49B5-A70A-7C16D443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5BF2-0C12-42A8-9C62-64E21F4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BDA5-1629-47CE-96FB-E5D5916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BBB63-A39D-44E7-9648-842DD9D5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CCB9-0AB3-4466-AD9F-89C4074A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AF6E-BAA3-4813-84F2-7223E3A0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0993-4EFC-4075-8D56-4DF26FAC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FC9-E00C-4FCB-AB69-1D36A66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5CB0-ADD7-4720-8615-011122F0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77C2-427D-4751-BA25-4AD917C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580D-6411-4765-B7EE-C0EBBCB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1AB2-E6E5-4977-B576-30C81CC4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D2FF9-EEB5-4AB9-8A7F-96059A47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C268-98B7-4BD1-BE52-022E6EA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B56C-183B-4CC4-97C9-2A96213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38F5-75F8-4AAA-A4D6-A4FDD7A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34E5-0F6F-418A-AA15-76415886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CF18-86AB-4498-BACF-17FC6024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D0C-2CCB-4521-BAEE-986BA9F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B4A0C-7E12-4CA6-B6A7-D38AAA6C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E832-BC34-4910-B2ED-1A810063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2112-486F-43B4-B530-69CFB00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6169-3F8F-4779-96C1-83F1D149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FF9E-A19C-4C5D-BEEB-FEAD510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E0376-EA24-4EA6-9BCE-8FCDA78F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DAA6-9433-4856-9AAE-0D1453C7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655FC-AA5C-4C25-9996-B07A1E0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9A04-1DB6-4A7B-AD8F-05CCB02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8198-9855-4714-A1F5-5C67A1C7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330-AB25-452B-A39E-D6FE8B7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63FB9-8995-4383-91BE-7AC868C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A09B-9D9B-43C1-93A1-E548B900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06B5-36D9-436D-9447-59D49802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7568A-3052-4EFC-9A76-0B82BC33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38E4A-C673-44EE-9677-3A188013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D6AEA-091F-4AA3-9783-4BE9579A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3D783-6378-4EFB-B4AD-0C37799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F436-47D2-4398-9848-EAF3978B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E83A7-A7E1-4995-BA49-D7DEDDB4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D2ED-F244-4E78-88EF-2822DB58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F6D-D08A-4900-BEC2-4972883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E9885-C0A9-43FC-A2DF-397E5CA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CC442-FDAB-42BA-A31B-19A318C6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0020-1404-4EE6-825B-60B44091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9710E-1D03-4601-A8E5-6B930012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A6BA-671F-4529-8F58-2C80D793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F69-8A53-4957-B81A-21869FF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8BD-6147-4AAD-A0C0-5BEEBEBF00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28CD-1662-4F12-A5E9-701C057E45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43FA-B930-4A72-8883-6489B8BE9E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CD5-EE24-4EB4-90E0-5E659A6FC2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ECA6-AFE6-426B-A0E5-B3939C1399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38F-EA1A-4B85-9A57-E54193FB7F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F39A-84B6-4BA8-A465-9B1E6FE069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285920"/>
            <a:ext cx="75088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зультати експертизи закінчення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12/2013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навчального року  у дошкільних навчальних закладах Харківського району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642760" y="5715000"/>
            <a:ext cx="628668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ротенко Г.І., методист ІМЦ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s58.radikal.ru/i162/1211/9c/aacbf59d9abb.jpg"/>
          <p:cNvPicPr/>
          <p:nvPr/>
        </p:nvPicPr>
        <p:blipFill>
          <a:blip r:embed="rId1"/>
          <a:stretch/>
        </p:blipFill>
        <p:spPr>
          <a:xfrm>
            <a:off x="1139760" y="3645000"/>
            <a:ext cx="30052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91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ерелік дошкільних навчальних закладів, де було здійснено експертизу закінченн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012/2013</a:t>
            </a: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навчального року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00080" y="1714680"/>
            <a:ext cx="7934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баївс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ісочинський ДНЗ №3 "Теремок“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ротичанс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утузівс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пец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иркунівс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реф’янський ДНЗ №1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прямки експертизи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42640" y="1143000"/>
            <a:ext cx="7791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Нормативно-правове забезпечення організації навчально-виховної роботи у закладі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План роботи закла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Організація навчально-виховного процесу у різних вікових група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Забезпеченість педкадр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Система внутрішнього педагогічного контрол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Організація науково-методичної роботи у закладі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Журнал обліку щоденного відвідування ді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Книга наказів з основної діяльності закла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зультативність вивченн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213920"/>
            <a:ext cx="74995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исокий рівень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ротичанс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утузівський ДНЗ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статній рівень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баївс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ісочинський ДНЗ №3 "Теремок“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пец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иркунівс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реф’янський ДНЗ №1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доліки, виявлені під час вивченн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uk-UA" sz="3000" spc="-1" strike="noStrike">
                <a:solidFill>
                  <a:srgbClr val="7030a0"/>
                </a:solidFill>
                <a:latin typeface="Corbel"/>
              </a:rPr>
              <a:t>Організація навчально-виховного процесу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систематично фіксується спрямування навчально-виховних заходів з дітьми: Липецький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нування індивідуальної роботи з дітьми не завжди співвідноситься з наявними педагогічними висновками: Мереф’янський ДНЗ №1, Циркунівський ДНЗ, Пісочинський ДНЗ №3 "Теремок"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7030a0"/>
                </a:solidFill>
                <a:latin typeface="Corbel"/>
                <a:ea typeface="Times New Roman"/>
              </a:rPr>
              <a:t>Система внутрішнього контролю</a:t>
            </a: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требують доопрацювання довідки за результатами перевірок, що видаються адміністрацією Циркунівського ДНЗ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пізодично здійснюється вивчення стану виконання наданих рекомендацій за результатами попередніх вивчень у Липецькому ДНЗ, Пісочинському ДНЗ №3 "Теремок", Циркунівському ДНЗ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комендації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213920"/>
            <a:ext cx="7499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відувачам ДНЗ розглянути довідку під час проведення оперативних нарад при завідувачеві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пень 2013 рок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Завідувачам Чорній Г.О. (Бабаївський ДНЗ), Ветренко М.Ю. (Пісочинський ДНЗ №3 "Теремок"), Тесленко Н.Ф. (Липецький ДНЗ), Кочаток С.П. (Циркунівський ДНЗ), Дядченко В.К. (Мереф’янський ДНЗ №1) усунути вказані недоліки та надати інформацію до відділу освіти про виконану робо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 15.07.201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Содержимое 2" descr=""/>
          <p:cNvPicPr/>
          <p:nvPr/>
        </p:nvPicPr>
        <p:blipFill>
          <a:blip r:embed="rId1"/>
          <a:stretch/>
        </p:blipFill>
        <p:spPr>
          <a:xfrm>
            <a:off x="1432080" y="1962000"/>
            <a:ext cx="7583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02:12:31Z</dcterms:created>
  <dc:creator>Анна</dc:creator>
  <dc:description/>
  <dc:language>en-US</dc:language>
  <cp:lastModifiedBy>User</cp:lastModifiedBy>
  <dcterms:modified xsi:type="dcterms:W3CDTF">2013-06-21T10:01:23Z</dcterms:modified>
  <cp:revision>13</cp:revision>
  <dc:subject/>
  <dc:title>Результати експертизи закінчення 2012/2013 навчального року  у дошкільних навчальних закладах Харківського району </dc:title>
</cp:coreProperties>
</file>