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0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70586566_grass-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dd8de1e910f0"/>
          <p:cNvPicPr/>
          <p:nvPr/>
        </p:nvPicPr>
        <p:blipFill>
          <a:blip r:embed="rId3"/>
          <a:stretch/>
        </p:blipFill>
        <p:spPr>
          <a:xfrm>
            <a:off x="0" y="4727520"/>
            <a:ext cx="2268360" cy="21304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dd8de1e910f0"/>
          <p:cNvPicPr/>
          <p:nvPr/>
        </p:nvPicPr>
        <p:blipFill>
          <a:blip r:embed="rId4"/>
          <a:stretch/>
        </p:blipFill>
        <p:spPr>
          <a:xfrm>
            <a:off x="6877080" y="4729320"/>
            <a:ext cx="2266920" cy="21286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dd8de1e910f0"/>
          <p:cNvPicPr/>
          <p:nvPr/>
        </p:nvPicPr>
        <p:blipFill>
          <a:blip r:embed="rId5"/>
          <a:stretch/>
        </p:blipFill>
        <p:spPr>
          <a:xfrm>
            <a:off x="0" y="0"/>
            <a:ext cx="2050920" cy="1925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bae038fc83c1"/>
          <p:cNvPicPr/>
          <p:nvPr/>
        </p:nvPicPr>
        <p:blipFill>
          <a:blip r:embed="rId6"/>
          <a:srcRect l="0" t="41025" r="60000" b="3948"/>
          <a:stretch/>
        </p:blipFill>
        <p:spPr>
          <a:xfrm>
            <a:off x="1476360" y="522936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bae038fc83c1"/>
          <p:cNvPicPr/>
          <p:nvPr/>
        </p:nvPicPr>
        <p:blipFill>
          <a:blip r:embed="rId7"/>
          <a:srcRect l="0" t="0" r="60000" b="0"/>
          <a:stretch/>
        </p:blipFill>
        <p:spPr>
          <a:xfrm>
            <a:off x="7846920" y="1060560"/>
            <a:ext cx="1297080" cy="26161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bae038fc83c1"/>
          <p:cNvPicPr/>
          <p:nvPr/>
        </p:nvPicPr>
        <p:blipFill>
          <a:blip r:embed="rId8"/>
          <a:srcRect l="0" t="41022" r="60000" b="3938"/>
          <a:stretch/>
        </p:blipFill>
        <p:spPr>
          <a:xfrm>
            <a:off x="1835280" y="260280"/>
            <a:ext cx="1296720" cy="1440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tcvet75"/>
          <p:cNvPicPr/>
          <p:nvPr/>
        </p:nvPicPr>
        <p:blipFill>
          <a:blip r:embed="rId9"/>
          <a:stretch/>
        </p:blipFill>
        <p:spPr>
          <a:xfrm>
            <a:off x="5148360" y="0"/>
            <a:ext cx="1006200" cy="1068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tcvet75"/>
          <p:cNvPicPr/>
          <p:nvPr/>
        </p:nvPicPr>
        <p:blipFill>
          <a:blip r:embed="rId10"/>
          <a:stretch/>
        </p:blipFill>
        <p:spPr>
          <a:xfrm rot="5779200">
            <a:off x="-360" y="2277360"/>
            <a:ext cx="1006560" cy="10684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tcvet75"/>
          <p:cNvPicPr/>
          <p:nvPr/>
        </p:nvPicPr>
        <p:blipFill>
          <a:blip r:embed="rId11"/>
          <a:stretch/>
        </p:blipFill>
        <p:spPr>
          <a:xfrm>
            <a:off x="4716360" y="5589720"/>
            <a:ext cx="1006560" cy="10681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tcvet75"/>
          <p:cNvPicPr/>
          <p:nvPr/>
        </p:nvPicPr>
        <p:blipFill>
          <a:blip r:embed="rId12"/>
          <a:stretch/>
        </p:blipFill>
        <p:spPr>
          <a:xfrm rot="13672800">
            <a:off x="6547680" y="228960"/>
            <a:ext cx="1006560" cy="10684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dd8de1e910f0"/>
          <p:cNvPicPr/>
          <p:nvPr/>
        </p:nvPicPr>
        <p:blipFill>
          <a:blip r:embed="rId13"/>
          <a:stretch/>
        </p:blipFill>
        <p:spPr>
          <a:xfrm>
            <a:off x="6732720" y="0"/>
            <a:ext cx="2411280" cy="2263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1293027995647"/>
          <p:cNvPicPr/>
          <p:nvPr/>
        </p:nvPicPr>
        <p:blipFill>
          <a:blip r:embed="rId14"/>
          <a:srcRect l="0" t="15748" r="72024" b="66647"/>
          <a:stretch/>
        </p:blipFill>
        <p:spPr>
          <a:xfrm>
            <a:off x="7667640" y="3645000"/>
            <a:ext cx="1224000" cy="11080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5" descr="1293027995647"/>
          <p:cNvPicPr/>
          <p:nvPr/>
        </p:nvPicPr>
        <p:blipFill>
          <a:blip r:embed="rId15"/>
          <a:srcRect l="34655" t="0" r="38688" b="85174"/>
          <a:stretch/>
        </p:blipFill>
        <p:spPr>
          <a:xfrm>
            <a:off x="3348000" y="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6" descr="1293027995647"/>
          <p:cNvPicPr/>
          <p:nvPr/>
        </p:nvPicPr>
        <p:blipFill>
          <a:blip r:embed="rId16"/>
          <a:srcRect l="0" t="68569" r="73344" b="12909"/>
          <a:stretch/>
        </p:blipFill>
        <p:spPr>
          <a:xfrm>
            <a:off x="7777080" y="18900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7" descr="1293027995647"/>
          <p:cNvPicPr/>
          <p:nvPr/>
        </p:nvPicPr>
        <p:blipFill>
          <a:blip r:embed="rId17"/>
          <a:srcRect l="34655" t="0" r="38688" b="85174"/>
          <a:stretch/>
        </p:blipFill>
        <p:spPr>
          <a:xfrm>
            <a:off x="3419640" y="5878440"/>
            <a:ext cx="1223640" cy="97956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8" descr="1293027995647"/>
          <p:cNvPicPr/>
          <p:nvPr/>
        </p:nvPicPr>
        <p:blipFill>
          <a:blip r:embed="rId18"/>
          <a:srcRect l="0" t="68569" r="73344" b="12909"/>
          <a:stretch/>
        </p:blipFill>
        <p:spPr>
          <a:xfrm>
            <a:off x="324000" y="3284640"/>
            <a:ext cx="1366560" cy="13665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19" descr="tcvet75"/>
          <p:cNvPicPr/>
          <p:nvPr/>
        </p:nvPicPr>
        <p:blipFill>
          <a:blip r:embed="rId19"/>
          <a:stretch/>
        </p:blipFill>
        <p:spPr>
          <a:xfrm>
            <a:off x="5796000" y="5789520"/>
            <a:ext cx="1006560" cy="106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6760" y="1356840"/>
            <a:ext cx="84819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f056f"/>
                </a:solidFill>
                <a:latin typeface="Monotype Corsiva"/>
              </a:rPr>
              <a:t>Результати вивчення </a:t>
            </a:r>
            <a:br>
              <a:rPr sz="4800"/>
            </a:br>
            <a:r>
              <a:rPr b="1" i="1" lang="uk-UA" sz="4800" spc="-1" strike="noStrike">
                <a:solidFill>
                  <a:srgbClr val="0f056f"/>
                </a:solidFill>
                <a:latin typeface="Monotype Corsiva"/>
              </a:rPr>
              <a:t>стану організації </a:t>
            </a:r>
            <a:br>
              <a:rPr sz="4800"/>
            </a:br>
            <a:r>
              <a:rPr b="1" i="1" lang="uk-UA" sz="4800" spc="-1" strike="noStrike">
                <a:solidFill>
                  <a:srgbClr val="0f056f"/>
                </a:solidFill>
                <a:latin typeface="Monotype Corsiva"/>
              </a:rPr>
              <a:t>літнього оздоровлення дітей у ДНЗ район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500280" y="4857480"/>
            <a:ext cx="53388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ротенко Г.І., методист ІМ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38240" y="-1028880"/>
            <a:ext cx="285732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138240" y="-1028880"/>
            <a:ext cx="285732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38240" y="-1028880"/>
            <a:ext cx="285732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38240" y="-1219320"/>
            <a:ext cx="3809880" cy="25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86880" cy="229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ерелік дошкільних навчальних закладів, де було здійснено вивчення </a:t>
            </a:r>
            <a:br>
              <a:rPr sz="3600"/>
            </a:br>
            <a:r>
              <a:rPr b="1" lang="uk-UA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ну організації літнього оздоровлення діт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4200" y="2571480"/>
            <a:ext cx="8786880" cy="355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                   </a:t>
            </a: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-  Васищівський ДН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                   </a:t>
            </a: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-  Веселівський ДН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                   </a:t>
            </a: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-  Вільхівський ДН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                   </a:t>
            </a: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-  Роганський ДНЗ №1, №2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                   </a:t>
            </a: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-  Фрунзенський ДН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400" y="213840"/>
            <a:ext cx="8429400" cy="6357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ерелік питань, які підлягали вивченн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05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Нормативно-правове забезпечення організації літнього оздоровлення вихованців у дошкільному закла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05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План роботи на літній оздоровчий пері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05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Книга наказів з основної діяль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05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Форми роботи з діт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05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Робота адміністрації закладу щодо відстеження відвідування його діт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13880" y="714240"/>
            <a:ext cx="7929720" cy="5857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05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Робота педагогічного колективу щодо профілактики дитячого травматиз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05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Медичне обслугов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05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Організація харч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05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Гнучкість режиму роботи закл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05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Організація навчально-виховного проц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05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Форми роботи з педагогічними кад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05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Стан матеріально-технічного забезпеч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05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Санітарно-гігієнічні умови навчання і вихо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f05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Системність контро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зультативність вивч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исокий рів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f056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Вільхівський ДН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остатній рів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-  Васищівський ДН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-  Веселівський ДН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-  Роганський ДНЗ №1, №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-  Фрунзенський ДН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Недоліки, виявлені під час вивч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f056f"/>
                </a:solidFill>
                <a:uFillTx/>
                <a:latin typeface="Times New Roman"/>
                <a:ea typeface="Times New Roman"/>
              </a:rPr>
              <a:t>Робота педагогічного колективу щодо профілактики дитячого травмат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    </a:t>
            </a: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- незначна кількість інформаційних матеріалів для батьків: Пісочинський ДНЗ №3 «Теремок», Роганський ДНЗ №2 та Роганський ДНЗ №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285920"/>
            <a:ext cx="8229600" cy="3929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f056f"/>
                </a:solidFill>
                <a:uFillTx/>
                <a:latin typeface="Times New Roman"/>
                <a:ea typeface="Times New Roman"/>
              </a:rPr>
              <a:t>Стан матеріально-технічного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- відсутність спортивних майданчиків на території Веселівського та Фрунзенського ДН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356760"/>
            <a:ext cx="8229600" cy="6357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комендації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1. Завідувачам ДНЗ розглянути довідку під час проведення оперативних нарад при завідувач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Липень 2013 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2. Завідувачам Ветренко М.Ю. (Пісочинський ДНЗ №3 «Теремок»), Єрещенко І.В. (Роганський ДНЗ №1), Рудченко Л.І. (Роганський</a:t>
            </a: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	</a:t>
            </a: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 ДНЗ №2),  Мостовій С.О. (Веселівський ДНЗ), Шаповаловій Т.Д. (Фрунзенський ДНЗ) усунути вказані недоліки та надати інформацію до відділу освіти про виконану ро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uk-UA" sz="2800" spc="-1" strike="noStrike">
                <a:solidFill>
                  <a:srgbClr val="0f056f"/>
                </a:solidFill>
                <a:latin typeface="Times New Roman"/>
                <a:ea typeface="Times New Roman"/>
              </a:rPr>
              <a:t>До 15.07.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07880" y="2451240"/>
            <a:ext cx="8425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3T12:34:19Z</dcterms:created>
  <dc:creator>Анна</dc:creator>
  <dc:description/>
  <dc:language>en-US</dc:language>
  <cp:lastModifiedBy>Анна</cp:lastModifiedBy>
  <dcterms:modified xsi:type="dcterms:W3CDTF">2013-06-24T21:30:42Z</dcterms:modified>
  <cp:revision>11</cp:revision>
  <dc:subject/>
  <dc:title>Результати вивчення  стану організації  літнього оздоровлення дітей у ДНЗ району </dc:title>
</cp:coreProperties>
</file>