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1F86-04E4-4229-BD95-B5213A68B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2059-58F7-48A6-8A56-9A3C76B9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41BC-A2F7-4D70-ADB6-EF4601274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2590-D427-4FD3-859C-09B843B87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E9BB-BA09-4B54-A983-FA81361EC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5DB0-9044-4045-9112-6F70F48A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8779-DFC4-43E2-8281-C342F177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86EE-403E-489D-9A7A-985DDBA4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D399-816A-4AE2-BD5D-39E3A006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AE34-CCD6-45B4-8869-8B92DCF3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56C5-26DF-44B3-A50E-C2C2CCCA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1973-53BB-428B-8354-C63DF3BF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FF05-0969-4DCC-BB1C-F0F3729A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F904-454B-4028-A510-36692AB1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D57C-B0C7-4CF1-B4C6-011C6819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9E37-B546-4A14-879E-35520E819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D3AC-024F-4C3F-9845-0B4C45BEE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C915-6D22-409F-8284-FB038E13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22CC-C21E-4C1C-B85E-6A4CC0D4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5799-471F-4C2C-B55B-BFCF9E8C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E376-07E2-432D-9873-BE2A5990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281E-9BED-4FD5-9376-297ACE67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F7CF-F13D-41EB-A18B-03F3B808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5F3C-FB25-4530-83D8-D072E136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C723-D9F2-4197-AF17-56F0526064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E30C-64B3-426A-8E18-79C1F98979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642160" cy="2952720"/>
          </a:xfrm>
          <a:prstGeom prst="rect">
            <a:avLst/>
          </a:prstGeom>
          <a:solidFill>
            <a:srgbClr val="eaeaea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Bookman Old Style"/>
              </a:rPr>
              <a:t>Аналіз захворюваності та </a:t>
            </a:r>
            <a:r>
              <a:rPr b="1" i="1" lang="uk-UA" sz="4400" spc="-1" strike="noStrike">
                <a:solidFill>
                  <a:srgbClr val="ff0000"/>
                </a:solidFill>
                <a:latin typeface="Bookman Old Style"/>
              </a:rPr>
              <a:t>відвідуванння дітьми                           </a:t>
            </a:r>
            <a:r>
              <a:rPr b="1" i="1" lang="ru-RU" sz="4400" spc="-1" strike="noStrike">
                <a:solidFill>
                  <a:srgbClr val="ff0000"/>
                </a:solidFill>
                <a:latin typeface="Bookman Old Style"/>
              </a:rPr>
              <a:t>ДНЗ району 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Bookman Old Style"/>
              </a:rPr>
              <a:t>за ІІ квартал</a:t>
            </a:r>
            <a:r>
              <a:rPr b="1" i="1" lang="uk-UA" sz="4400" spc="-1" strike="noStrike">
                <a:solidFill>
                  <a:srgbClr val="ff0000"/>
                </a:solidFill>
                <a:latin typeface="Bookman Old Style"/>
              </a:rPr>
              <a:t>і</a:t>
            </a:r>
            <a:r>
              <a:rPr b="1" i="1" lang="ru-RU" sz="4400" spc="-1" strike="noStrike">
                <a:solidFill>
                  <a:srgbClr val="ff0000"/>
                </a:solidFill>
                <a:latin typeface="Bookman Old Style"/>
              </a:rPr>
              <a:t> 2013</a:t>
            </a:r>
            <a:r>
              <a:rPr b="1" i="1" lang="en-US" sz="4400" spc="-1" strike="noStrike">
                <a:solidFill>
                  <a:srgbClr val="ff0000"/>
                </a:solidFill>
                <a:latin typeface="Bookman Old Style"/>
              </a:rPr>
              <a:t> р</a:t>
            </a:r>
            <a:r>
              <a:rPr b="1" i="1" lang="ru-RU" sz="4400" spc="-1" strike="noStrike">
                <a:solidFill>
                  <a:srgbClr val="ff0000"/>
                </a:solidFill>
                <a:latin typeface="Bookman Old Style"/>
              </a:rPr>
              <a:t>оку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eaeaea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</a:rPr>
              <a:t>Яротенко Г.І., методист ІМ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Відсотковий показник захворюваності сере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вихованців дошкільних навчальних закладі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Диаграмма 3" descr=""/>
          <p:cNvPicPr/>
          <p:nvPr/>
        </p:nvPicPr>
        <p:blipFill>
          <a:blip r:embed="rId1"/>
          <a:stretch/>
        </p:blipFill>
        <p:spPr>
          <a:xfrm>
            <a:off x="493560" y="1420920"/>
            <a:ext cx="8296560" cy="465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26920" y="-36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ff0000"/>
                </a:solidFill>
                <a:uFillTx/>
                <a:latin typeface="Times New Roman"/>
              </a:rPr>
              <a:t>Високі показники відвідування вихованцями ДНЗ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TextBox 2" descr=""/>
          <p:cNvPicPr/>
          <p:nvPr/>
        </p:nvPicPr>
        <p:blipFill>
          <a:blip r:embed="rId1"/>
          <a:stretch/>
        </p:blipFill>
        <p:spPr>
          <a:xfrm>
            <a:off x="281160" y="1011240"/>
            <a:ext cx="8508960" cy="57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920" y="907560"/>
            <a:ext cx="835344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екомендації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.  Проаналізувати питання захворюваності та відвідування за ІІ квартал 2013 року на оперативних нарадах при завідувачев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 15.07.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 метою формування навичок здорового способу життя </a:t>
            </a: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 родинах вихованців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дійсню</a:t>
            </a: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ати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світницьку роботу з батьками</a:t>
            </a: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стій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7720" y="2268360"/>
            <a:ext cx="8007480" cy="20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Times New Roman"/>
              </a:rPr>
              <a:t>Дякую за увагу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3:32:39Z</dcterms:created>
  <dc:creator>НАДЕЖДА всего МИРА</dc:creator>
  <dc:description/>
  <dc:language>en-US</dc:language>
  <cp:lastModifiedBy>Анна</cp:lastModifiedBy>
  <dcterms:modified xsi:type="dcterms:W3CDTF">2013-06-19T03:01:34Z</dcterms:modified>
  <cp:revision>47</cp:revision>
  <dc:subject/>
  <dc:title>Аналіз захворюваності та відвідуваності дітьми ДНЗ району  за І квартал 2012 р.</dc:title>
</cp:coreProperties>
</file>